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82A7-3E9E-48C0-A959-7DAEF7AE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2D21-BBF2-4B78-BDBE-74160476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6133-A058-46AE-BE16-96A19B9BA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0E2D-1511-4594-91A0-969D77A70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3048-4FB3-4084-A76A-DEBFF121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32BC-FC83-49BB-A1D3-7E3921FC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A28A-E7B6-478E-930E-32D6C2BC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12F4-EF13-464E-9B47-F633A2BE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8725-D5B0-4212-8365-D1FCC61A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4EEF-DCDE-4A61-9539-208F6E68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6918-A216-403C-8F9C-8DFB51EC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8D6E-F8E9-494D-AE5E-D10DD1FF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8B04-5C26-40BB-B3A4-1FD7A1FF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0F22-4533-45B4-9065-672BE66C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4973-A385-4886-BE9A-FF447232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1B4E-80C8-4D00-BA2E-8D41F9E3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B9E0-346A-478E-BE35-8B83EB5A5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8B85-0449-4555-BFE2-CCF8693C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F714-01CB-49DE-BD02-CFE6FFAB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2BBC-5DC6-43E6-BFFD-55F09D0D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6A9A-7CAB-4E1A-A746-9A1409F7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8041-9850-40F3-930C-070664A3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F16F-4F1F-4ADA-B095-BD955855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C183-E00C-4652-85C1-0C0CE0E9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D75D-381A-4AE6-8619-131D1B853B8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E8CA-8225-444A-8551-132EB60A229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500120" y="3571920"/>
            <a:ext cx="64008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Arial"/>
                <a:ea typeface="Arial"/>
              </a:rPr>
              <a:t>Научная деятельность университета в 2007 го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1" descr=""/>
          <p:cNvPicPr/>
          <p:nvPr/>
        </p:nvPicPr>
        <p:blipFill>
          <a:blip r:embed="rId1"/>
          <a:stretch/>
        </p:blipFill>
        <p:spPr>
          <a:xfrm>
            <a:off x="3929040" y="185724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Эффективность деятельности диссертационных советов в 200</a:t>
            </a:r>
            <a:r>
              <a:rPr b="0" lang="en-US" sz="1800" spc="-1" strike="noStrike">
                <a:solidFill>
                  <a:srgbClr val="376092"/>
                </a:solidFill>
                <a:latin typeface="Arial"/>
                <a:ea typeface="Arial"/>
              </a:rPr>
              <a:t>7</a:t>
            </a: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 го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42920" y="1214280"/>
          <a:ext cx="8713800" cy="2654280"/>
        </p:xfrm>
        <a:graphic>
          <a:graphicData uri="http://schemas.openxmlformats.org/drawingml/2006/table">
            <a:tbl>
              <a:tblPr/>
              <a:tblGrid>
                <a:gridCol w="1944720"/>
                <a:gridCol w="1631880"/>
                <a:gridCol w="1711440"/>
                <a:gridCol w="1712880"/>
                <a:gridCol w="1712880"/>
              </a:tblGrid>
              <a:tr h="71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ифр сов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212.197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212.19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212.197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212.197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</a:tr>
              <a:tr h="12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речень научных специальностей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 которым проводится защи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30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теорология, климатология, агрометеоролог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27 – Гидрология суши, водные ресурсы, гидрохими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28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Океанолог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35 – Геоинформатика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36 – Геоэколог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27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Гидрология суши, водные ресурсы, гидрохими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30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теорология, климатология, агрометеоролог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ичество защищенн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иссерт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Издательская деятельность в 2007 го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050920" y="836640"/>
          <a:ext cx="5040360" cy="4854600"/>
        </p:xfrm>
        <a:graphic>
          <a:graphicData uri="http://schemas.openxmlformats.org/drawingml/2006/table">
            <a:tbl>
              <a:tblPr/>
              <a:tblGrid>
                <a:gridCol w="3745080"/>
                <a:gridCol w="129528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нографии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</a:tr>
              <a:tr h="282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данные российскими издательствами, из них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—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дательством «Высшая школ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—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дательством ву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борники научных трудов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ом числе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—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ждународные научные конференции и симпозиу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—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угие сборн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чебники и учебные пособия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—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 грифом УМО и НМ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—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 грифом Минобрнауки Росс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—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 другими грифам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атьи, всего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—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зарубежных издан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—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российских издан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чебные программы и методические указ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Распределение тем по количеству и объему </a:t>
            </a:r>
            <a:br>
              <a:rPr sz="1800"/>
            </a:b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с 200</a:t>
            </a:r>
            <a:r>
              <a:rPr b="0" lang="en-US" sz="1800" spc="-1" strike="noStrike">
                <a:solidFill>
                  <a:srgbClr val="376092"/>
                </a:solidFill>
                <a:latin typeface="Arial"/>
                <a:ea typeface="Arial"/>
              </a:rPr>
              <a:t>3</a:t>
            </a: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 по 200</a:t>
            </a:r>
            <a:r>
              <a:rPr b="0" lang="en-US" sz="1800" spc="-1" strike="noStrike">
                <a:solidFill>
                  <a:srgbClr val="376092"/>
                </a:solidFill>
                <a:latin typeface="Arial"/>
                <a:ea typeface="Arial"/>
              </a:rPr>
              <a:t>7</a:t>
            </a: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79280" y="1268280"/>
          <a:ext cx="8785440" cy="4338720"/>
        </p:xfrm>
        <a:graphic>
          <a:graphicData uri="http://schemas.openxmlformats.org/drawingml/2006/table">
            <a:tbl>
              <a:tblPr/>
              <a:tblGrid>
                <a:gridCol w="1551240"/>
                <a:gridCol w="517320"/>
                <a:gridCol w="959040"/>
                <a:gridCol w="517320"/>
                <a:gridCol w="897120"/>
                <a:gridCol w="506160"/>
                <a:gridCol w="957240"/>
                <a:gridCol w="517680"/>
                <a:gridCol w="959040"/>
                <a:gridCol w="517320"/>
                <a:gridCol w="885960"/>
              </a:tblGrid>
              <a:tr h="287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ред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ед.агентство по обр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Мин.обр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39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 77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 71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19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 58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ед. агентство по науке и инн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Роснаук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31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3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3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35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20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бъект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137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82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50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44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90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ФФ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12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49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7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/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14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98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25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14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27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угие Мин-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2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32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11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рубежные контрак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18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774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87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0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бственные сред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38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85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 11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 45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21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 81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Распределение тем по факультетам за период с 2003 по 2007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85840" y="1285920"/>
          <a:ext cx="8605800" cy="4413240"/>
        </p:xfrm>
        <a:graphic>
          <a:graphicData uri="http://schemas.openxmlformats.org/drawingml/2006/table">
            <a:tbl>
              <a:tblPr/>
              <a:tblGrid>
                <a:gridCol w="1476360"/>
                <a:gridCol w="468360"/>
                <a:gridCol w="900000"/>
                <a:gridCol w="503280"/>
                <a:gridCol w="936720"/>
                <a:gridCol w="504720"/>
                <a:gridCol w="934920"/>
                <a:gridCol w="505080"/>
                <a:gridCol w="934920"/>
                <a:gridCol w="504720"/>
                <a:gridCol w="936720"/>
              </a:tblGrid>
              <a:tr h="36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ульт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теорологиче-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13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14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52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71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идр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34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45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кеан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 16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94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8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65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 68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кологии и физики природной сре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57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50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кономическ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 соц.-гум. нау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енная кафед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98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34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И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2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 53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81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 84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66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 11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 45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21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 81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Основные научные направления РГГМ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28760" y="928800"/>
          <a:ext cx="8256600" cy="5519520"/>
        </p:xfrm>
        <a:graphic>
          <a:graphicData uri="http://schemas.openxmlformats.org/drawingml/2006/table">
            <a:tbl>
              <a:tblPr/>
              <a:tblGrid>
                <a:gridCol w="462960"/>
                <a:gridCol w="6166080"/>
                <a:gridCol w="1411920"/>
                <a:gridCol w="2160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вание научного направления (научной школ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храна окружающей среды, мониторинг, моделирование возникновения и развития природных и техногенных процессов на водных объектах и в атмосфе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оретические и экспериментальные исследования гидрофизических, гидрохимических и гидробиологических процессов в морях и прибрежных зон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учение динамики водных ресурсов и качества вод в условиях естественного развития гидрометеорологических процессов с целью создания системы наиболее рационального использования и охраны поверхностных вод суш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ния атмосферных процессов и явлений, оценка изменений климата под влиянием естественных и антропогенных факторов в интересах обеспечения народного хозяйства и охраны окружающей сред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здание диагностических и прогностических моделей развития природных и техногенных катастрофических ситуаций на водных объектах и в приземном слое атмосферы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ногосенсорные геоинформационные системы дистанционного мониторинга окружающей среды. Технологии сбора, обработки, преобразования и моделирования геоинформации, информационная безопасность в геоинформационных систем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ка и управление народным хозяйством, управление инновациями с учетом природных факторов, экономика природопользов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учение текстовых лексико-грамматических и семантико-синтаксических особенностей подъязыка гидрометеорологии. Исследование научной, информационной и официально-деловой реч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, международные проек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7680" y="348840"/>
            <a:ext cx="807732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Сводные сведения о выполнении НИР в 2007 го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95280" y="1197000"/>
          <a:ext cx="8302680" cy="4776840"/>
        </p:xfrm>
        <a:graphic>
          <a:graphicData uri="http://schemas.openxmlformats.org/drawingml/2006/table">
            <a:tbl>
              <a:tblPr/>
              <a:tblGrid>
                <a:gridCol w="519120"/>
                <a:gridCol w="3632040"/>
                <a:gridCol w="2076480"/>
                <a:gridCol w="207504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сточник финансир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ичество НИ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редства федерального бюдж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 67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едеральное Агентство по образова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 58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едеральное Агентство по науке и инновац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20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ФФ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7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угие Министер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11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редства Субъектов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90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уг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27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рубежные контрак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10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бственные средства ВУ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85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 81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Сведения по НИР за 2007 год</a:t>
            </a:r>
            <a:br>
              <a:rPr sz="1800"/>
            </a:b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 (по факультетам РГГМУ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42920" y="1214280"/>
          <a:ext cx="8834400" cy="4975560"/>
        </p:xfrm>
        <a:graphic>
          <a:graphicData uri="http://schemas.openxmlformats.org/drawingml/2006/table">
            <a:tbl>
              <a:tblPr/>
              <a:tblGrid>
                <a:gridCol w="1285920"/>
                <a:gridCol w="285840"/>
                <a:gridCol w="714240"/>
                <a:gridCol w="214200"/>
                <a:gridCol w="811440"/>
                <a:gridCol w="287280"/>
                <a:gridCol w="758880"/>
                <a:gridCol w="214200"/>
                <a:gridCol w="642960"/>
                <a:gridCol w="214200"/>
                <a:gridCol w="571680"/>
                <a:gridCol w="214200"/>
                <a:gridCol w="714240"/>
                <a:gridCol w="285840"/>
                <a:gridCol w="642960"/>
                <a:gridCol w="214200"/>
                <a:gridCol w="762120"/>
              </a:tblGrid>
              <a:tr h="863640">
                <a:tc rowSpan="2">
                  <a:txBody>
                    <a:bodyPr lIns="36000" rIns="36000" tIns="540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ульт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едеральное Агентство по образова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едеральное Агентство по науке и инновац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гиональные программы (Санкт-Петербург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ФФ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оз. договорные НИ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угие мини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рубеж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ые гран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32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теор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70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71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96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идр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2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45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кеан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94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30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6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11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8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 68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кологии и физики природной сре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50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50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96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кономическ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 соц.-гуман. нау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енная кафед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34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34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И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78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4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53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65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66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40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 58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0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90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7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0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 81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76092"/>
                </a:solidFill>
                <a:latin typeface="Arial"/>
                <a:ea typeface="Arial"/>
              </a:rPr>
              <a:t>Сведения по НИР за 2007 год (по факультетам, кафедрам РГГМУ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332000" y="333360"/>
          <a:ext cx="6553080" cy="7120080"/>
        </p:xfrm>
        <a:graphic>
          <a:graphicData uri="http://schemas.openxmlformats.org/drawingml/2006/table">
            <a:tbl>
              <a:tblPr/>
              <a:tblGrid>
                <a:gridCol w="1800000"/>
                <a:gridCol w="2303640"/>
                <a:gridCol w="1152360"/>
                <a:gridCol w="12970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ульте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фед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-во те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мма, тыс. руб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теорологическ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КЗ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099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теорологических про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605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Ф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КО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идрологическ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идрофизики и гидропро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идрологии суш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355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идрометр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9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еодезии и гидрогеолог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кеанологическ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кеанолог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4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ПЗ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417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 и ОП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702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ЮНЕСК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853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В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кологи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кладной экологи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822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 физи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изи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родно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темати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ред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им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колог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кономическ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 социально-гуманитарных нау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кономики и менеджмен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П и У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циально-гуманитарных нау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енная кафед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344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И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И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761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рской институт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4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ститут геоэкологического инжинириг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374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 819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6092"/>
                </a:solidFill>
                <a:latin typeface="Arial"/>
                <a:ea typeface="Arial"/>
              </a:rPr>
              <a:t>Участие в выставках и конференциях в 2007 го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28440" y="1428840"/>
            <a:ext cx="7143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2007 году Университет участвова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5 выставка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том числе 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международных), представив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и этом 16 экспонато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36 конференция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(из них 30 международных и 6 на базе вуза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 прошлый год получил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наград (премий, дипломов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Подготовка высококвалифицированных кадров (аспирантура) в 200</a:t>
            </a:r>
            <a:r>
              <a:rPr b="0" lang="en-US" sz="1800" spc="-1" strike="noStrike">
                <a:solidFill>
                  <a:srgbClr val="376092"/>
                </a:solidFill>
                <a:latin typeface="Arial"/>
                <a:ea typeface="Arial"/>
              </a:rPr>
              <a:t>7</a:t>
            </a: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 го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42920" y="1071720"/>
          <a:ext cx="8785080" cy="5959440"/>
        </p:xfrm>
        <a:graphic>
          <a:graphicData uri="http://schemas.openxmlformats.org/drawingml/2006/table">
            <a:tbl>
              <a:tblPr/>
              <a:tblGrid>
                <a:gridCol w="2233440"/>
                <a:gridCol w="574920"/>
                <a:gridCol w="649080"/>
                <a:gridCol w="647640"/>
                <a:gridCol w="648000"/>
                <a:gridCol w="647640"/>
                <a:gridCol w="792000"/>
                <a:gridCol w="649440"/>
                <a:gridCol w="792000"/>
                <a:gridCol w="503280"/>
                <a:gridCol w="647640"/>
              </a:tblGrid>
              <a:tr h="452160">
                <a:tc rowSpan="3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тегория аспира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ленность на начало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было до окончания сро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ический выпуск в отчетном год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ленность на конец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 них оч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 них оч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 них оч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.ч. с защитой диссерт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 них оч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 них оч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спиранты, обучающиеся за счет средств федерального бюдж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.ч. аспиранты – граждане Российской Федераци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спиранты, обучающиеся по прямым договорам с оплатой стоимости обу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.ч. аспиранты – граждане Российской Федераци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 аспира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.ч. аспирантов – граждан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92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Распределение аспирантов, обучающихся за счет средств ФБ по отраслям науки и специальностям в 200</a:t>
            </a:r>
            <a:r>
              <a:rPr b="0" lang="en-US" sz="1800" spc="-1" strike="noStrike">
                <a:solidFill>
                  <a:srgbClr val="376092"/>
                </a:solidFill>
                <a:latin typeface="Arial"/>
                <a:ea typeface="Arial"/>
              </a:rPr>
              <a:t>7</a:t>
            </a: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 го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9280" y="1268280"/>
          <a:ext cx="8802720" cy="5419800"/>
        </p:xfrm>
        <a:graphic>
          <a:graphicData uri="http://schemas.openxmlformats.org/drawingml/2006/table">
            <a:tbl>
              <a:tblPr/>
              <a:tblGrid>
                <a:gridCol w="3310200"/>
                <a:gridCol w="647640"/>
                <a:gridCol w="647280"/>
                <a:gridCol w="720360"/>
                <a:gridCol w="718560"/>
                <a:gridCol w="649080"/>
                <a:gridCol w="647280"/>
                <a:gridCol w="647280"/>
                <a:gridCol w="601560"/>
                <a:gridCol w="216000"/>
              </a:tblGrid>
              <a:tr h="402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расли науки и специа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ленность на начало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ический выпуск в отчетном год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ленность на конец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 них оч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 них оч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.ч. с защитой диссерт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 них оч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 них оч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формационно-измерительные и управляющие системы (по отрасля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кономика и управление народным хозяйств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 науки о Земл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идрология суши, гидрохимия, водные ресурс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кеанолог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теорология, климатология, агрометеоролог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еоинформа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еоэколог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Подготовка высококвалифицированных кадров (докторантура) в 200</a:t>
            </a:r>
            <a:r>
              <a:rPr b="0" lang="en-US" sz="1800" spc="-1" strike="noStrike">
                <a:solidFill>
                  <a:srgbClr val="376092"/>
                </a:solidFill>
                <a:latin typeface="Arial"/>
                <a:ea typeface="Arial"/>
              </a:rPr>
              <a:t>7</a:t>
            </a: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 го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28760" y="1071720"/>
          <a:ext cx="8229600" cy="4611600"/>
        </p:xfrm>
        <a:graphic>
          <a:graphicData uri="http://schemas.openxmlformats.org/drawingml/2006/table">
            <a:tbl>
              <a:tblPr/>
              <a:tblGrid>
                <a:gridCol w="3251160"/>
                <a:gridCol w="1439640"/>
                <a:gridCol w="936720"/>
                <a:gridCol w="1262160"/>
                <a:gridCol w="1339920"/>
              </a:tblGrid>
              <a:tr h="566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тегория доктора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ленность на начало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ический выпуск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отчетном год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ленност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 конец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</a:tr>
              <a:tr h="58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 защитой диссерт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кторанты подготовка которых осуществлена за счет средств федерального бюдж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кторанты подготовка который осуществлена по прямым договорам с оплатой стоимости обу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 доктора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спределение докторантов, обучающихся за счет средств ФБ по отраслям науки и специальностям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идрология суши водные ресурсы, гидрохим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теорология, климатолог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кеанолог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09:37Z</dcterms:created>
  <dc:creator>NIS-1</dc:creator>
  <dc:description/>
  <dc:language>en-US</dc:language>
  <cp:lastModifiedBy>Васильев Роман</cp:lastModifiedBy>
  <dcterms:modified xsi:type="dcterms:W3CDTF">2008-01-24T16:03:37Z</dcterms:modified>
  <cp:revision>324</cp:revision>
  <dc:subject/>
  <dc:title>Итоговая сессия Ученого совета РГГМУ</dc:title>
</cp:coreProperties>
</file>